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1B3-BF02-40AB-9A1B-22602A12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F51-6559-45B9-84BB-2B64CC3D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AF2-CEE4-444D-BA37-C522D7C0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830-20C7-41EB-876C-31667BBE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945-E442-487D-A280-D2C17B2D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BBB-9E6E-4FA7-9B97-B1C161F4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595-88CC-4501-9FA8-37EC029C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A33-280D-453F-8151-8B685497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54B-7259-410E-933D-786C8896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200-2515-488D-A482-38263C92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B6C-A5B2-4EC6-B8AF-C1955D0A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C5C-EA75-47F5-99B6-060A12B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8FE1-FDCB-4175-AA56-F5C14BA1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Selected Poems of William Wordswor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581280"/>
            <a:ext cx="4191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entury Gothic"/>
              </a:rPr>
              <a:t>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entury Gothic"/>
              </a:rPr>
              <a:t>Christine Y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entury Gothic"/>
              </a:rPr>
              <a:t>Shloka Josh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Image Preview"/>
          <p:cNvPicPr/>
          <p:nvPr/>
        </p:nvPicPr>
        <p:blipFill>
          <a:blip r:embed="rId1"/>
          <a:stretch/>
        </p:blipFill>
        <p:spPr>
          <a:xfrm>
            <a:off x="5638680" y="3048120"/>
            <a:ext cx="2462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Symbolis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concept of the rainbow can be construed as hope, promises or even a fulfilled d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Some cultures believe that the rainbow is a bridge to the afterlife, one for dead heroes to cross to reach paradise, or Valha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poem as a whole is symbolic of the beauty of nature and Romantic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Behold her, single in the field, Yon solitary Highland Lass! Reaping and singing by herself; Stop here, or gently pass! Alone she cuts and binds the grain, And sings a melancholy strain;  O listen! for the Vale profound Is overflowing with the s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No Nightingale did ever chant More welcome notes to weary bands Of travelers in some shady haunt, Among Arabian sands: A voice so thrilling ne'er was heard In spring-time from the Cuckoo-bird, Breaking the silence of the seas Among the farthest Heb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638680" y="5943600"/>
            <a:ext cx="3048120" cy="792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Will no one tell me what she sings?-- Perhaps the plaintive numbers flow For old, unhappy, far-off things, And battles long ago: Or is it some more humble lay, Familiar matter of to-day? Some natural sorrow, loss, or pain, That has been, and may be aga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Whate'er the theme, the Maiden sang As if her song could have no ending; I saw her singing at her work, And o'er the sickle bending; -- I listened, motionless and still; And, as I mounted up the hill The music in my heart I bore, Long after it was heard no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Behold her, single in the field, Yon solitary Highland Lass! Reaping and singing by herself; Stop here, or gently pa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In this line, Wordsworth is telling the audience to listen to a woman who is singing to herself.  He tells us to stop or gently pass, as if not to disturb 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Alone she cuts and binds the grain, And sings a melancholy strain; O listen! for the Vale profound Is overflowing with the s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Wordsworth illustrates the woman reaping and singing a sad song. He tells the audience how the valley is filled with the beautiful sou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No Nightingale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did ever chant More welcome notes to weary bands Of travelers in </a:t>
            </a: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some shady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haunt, </a:t>
            </a: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Among Arabian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s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The woman’s voice cannot be compared to a nightingale, who is welcoming weary travel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A voice so thrilling ne'er was heard In spring-time from the Cuckoo-bird, Breaking the </a:t>
            </a: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silence of the seas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Among the farthest Hebr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That even in the springtime, the Cuckoo-bird’s voice was not as thrilling as the woman’s voice.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Will no one tell me what she sings?-- </a:t>
            </a: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Perhaps the plaintive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numbers flow For old, unhappy, far-off things, And battles long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Wordsworth wonders what she might be singing about.  He guesses that she is singing about old, sad things, perhaps batt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Or is it some more humble lay, Familiar matter of to-day? Some natural sorrow, loss, or pain, That has been, and may be agai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The woman’s song might be of more humble things, such as things of tod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Whate'er the theme, the Maiden sang As if her song could have no ending; I saw her singing at her work, And o'er the sickle bend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Whatever she might be singing about, he is captivated by the woman’s singing during her wor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86400" y="5721480"/>
            <a:ext cx="3200400" cy="831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My heart leaps up when I behold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    A rainbow in the sky: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So was it when my life began;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So is it now I am a man;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So be it when I shall grow old,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    Or let me die!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Child is father of the Man;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And I could wish my days to be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Bound each to each by natural p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I listened, motionless and still; And, as I mounted up the hill The music in my heart I bore, Long after it was heard no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Wordsworth carries the memory of her song even after he has passed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Anayl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Four eight-line stan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each ending with a cou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octosyllabic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written in iambic tet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Each stanza follows a rhyme scheme of ABABCCDD, though in the first and last stanzas the "A" rhyme is off (field/self and sang/wor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Idyll: lyric poetry describing the life of the shepherd in pastoral, bucolic, idealistic term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Analy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first stanza sets th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second offers two bird comparisons for the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third wonders about the content of the s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fourth describes the effect of the songs on the spea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My heart leaps up when I behold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A rainbow in the s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Wordsworth expresses his desire to be a part of the rainbow and its magnificence.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So was it when my life began;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So is it now I am a man;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This line insinuates that Wordsworth found life to be beautiful and still believes so to this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So be it when I shall grow old,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Or let me die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Wordsworth claims that he would rather die than lose his wonder of the wor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The Child is father of the Ma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This line suggests that the child produces the man.  The man is made from childhood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And I could wish my days to be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Bound each to each by natural pie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Wordsworth hopes that he will always appreciate the wonders of nature throughout his lif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Gothic"/>
              </a:rPr>
              <a:t>Type, Rhyme and The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This poem is a lyrical bal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The rhyme scheme in this poem is                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      A B C C A B D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The theme of this poem is the appreciation of nature and the idea of Roman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Literary Devic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Paradox- most important concept in 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     this po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line 7- “The Child is father of the Ma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ordsworth is seeing nature as if he were a child again, and it makes him happy to see the natural wonders of the world, rather than the man made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7:52:02Z</dcterms:created>
  <dc:creator>NPSD</dc:creator>
  <dc:description/>
  <dc:language>en-US</dc:language>
  <cp:lastModifiedBy>NPSD</cp:lastModifiedBy>
  <dcterms:modified xsi:type="dcterms:W3CDTF">2005-05-18T17:48:08Z</dcterms:modified>
  <cp:revision>16</cp:revision>
  <dc:subject/>
  <dc:title>Selected Poems of William Wordsworth</dc:title>
</cp:coreProperties>
</file>